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BF1-A57E-4606-88D6-A448D5F9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25E-A240-4191-A609-4F931878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201-61C9-48A3-A4FD-0924095C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BC5-C13F-4A58-B7D7-910729B4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140-791C-467C-A86E-C9F945B2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6C6-2E2C-40F3-AD4C-C755503B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290-A779-472C-8F83-32C667B7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F7F-97AA-4098-912D-B255ECAA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649-B855-4678-B6B8-A32F5724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41E-82BE-47F9-A4EF-DE1D64CA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7DD-1AD1-47F5-A6B0-D4CD7144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6B9-C600-4E18-8B2A-5BD93CE0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11DC-C0B9-4273-B623-0BE8D6D88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533160"/>
            <a:ext cx="8229600" cy="2361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2:50:36Z</dcterms:created>
  <dc:creator>NYCDOE</dc:creator>
  <dc:description/>
  <dc:language>en-US</dc:language>
  <cp:lastModifiedBy>NYCDOE</cp:lastModifiedBy>
  <dcterms:modified xsi:type="dcterms:W3CDTF">2010-04-23T12:51:07Z</dcterms:modified>
  <cp:revision>1</cp:revision>
  <dc:subject/>
  <dc:title>Slide 1</dc:title>
</cp:coreProperties>
</file>